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1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B1DE-862E-4FC7-ABBF-7120371D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FFC-AFE8-494E-95D7-4A4BE63A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906-73A3-424A-BC6F-30D56929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8343-0EB6-4C5C-89A5-FC6B501C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05E8-0E59-4C7F-BC53-8DDFF4A4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67DA-D0D0-42AF-B20E-FD775AA8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E9E7-7EFC-41F0-9CB5-CB21176C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09FF-CA68-4F54-A1FD-904B0009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B14E-8A1D-43DE-939C-4BD5C407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BD51-5544-4731-A870-22EE681A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85F5-CB5A-4237-BC8C-6B062EA0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BDD-7EE1-401B-A669-65C378B7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829D-834A-449B-9CBE-F9C36A9E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3903-5A0E-4466-B2AF-6C923D39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0A53-1730-4784-8D80-C32F3370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3AF5-84E9-4CEF-94CF-DF5948D7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01D6-8755-43FD-86FC-F78313AD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AE921-1B31-4F84-B8BC-463208B1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78184-13EE-48AE-A34E-F09978D9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FBB2A-F71C-4A4F-8EAA-761853A5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199B9-A5F6-49AB-8194-7620652C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0B73F-C151-48C8-B986-5AA753B3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65A-2818-4667-8930-AC079CB4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E1A46-B9D8-4517-8FDF-166D820F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CBF9E-EBE8-4B7B-80CC-6B42AA14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9B37D-10DC-4379-A855-8264F63B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7F95C-7E8D-46C5-A552-8882DE16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226C9-9C5C-4B8D-98C5-E80371AB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B66C8-9C5A-4726-9457-5FC55FCD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29C66-043C-476A-BA24-47380273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11C84-4D73-42EE-84A2-2F1BC17B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EA9D5-D18B-4ABB-B4A1-4E737509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672AF-BAAD-4BB9-B271-9E1163DB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544F-C3D9-44DF-96DE-7CBB8B6F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552D1-97C2-40B8-8359-A6B0C77B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D02F3-D2E9-49A9-8024-FFF9EC09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D9571-EAB7-4E36-A964-B38A7119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4E7C4-59A9-4AD7-BF64-DAA034CC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2EA1D-AD5D-4978-ADE4-889731A0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6FF66-9EF2-47A7-AA2F-CE5CA9F3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D2078-714A-4248-94C5-D1BB92E3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0343E-FC87-488E-BE0B-C871968E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DFD49-AE8D-48CB-B1D5-2E9BA43E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639BA-D1E2-493E-8555-E6256E8D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BDA-97F9-43E1-96F1-37661DCE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C0CC0-1BFA-4E11-BB68-DD307144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87BFD-058F-4661-994B-A6C876B2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1942B-E7B5-4693-B469-09940BED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EB56E-1611-499F-AF52-FB89AC3B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29E52-CC0A-4BE7-8A63-4529B57A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CE06A-40E8-4F38-B528-23896950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D8EFE-7E1E-44A8-B669-D5380665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56227-8469-45FA-A534-4C425CD1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D6B7C-0F46-4788-9512-C6FF908A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A6AE2-8FA6-4C01-8763-6C2B288E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E120-4325-41F1-A3BB-7C3DFF88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EAAE4-09FF-482B-94AE-0E633F5D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1D31A-FDE8-4F86-97B4-C36AEE97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21549-4DC1-4ADF-82FF-DCC11A4E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A812D-A723-4138-A0A2-26F0E6CD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77C3F-99AB-4551-BE35-458B4D32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DBCD3-9A4A-4E24-96CC-B5C3CF53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01F71-C9EB-4F54-B496-0BA8D632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A406D-49A7-487E-B6C3-BB27AD4B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FDE58-0750-4E22-8A83-27EC5CF3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A503A-A227-44CC-94A0-3063719C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3D6-5B8D-46E1-957C-CBE93D74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7337D-714B-4929-9250-8C0F485E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3BB5F-C5A3-4E69-A543-E33842F9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D377B-7433-479E-842C-04BEF6A9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F001A-50E8-410A-9FC2-7DE385C5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04FBB-2D2E-4EC9-A6A8-3B89F203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FE47F-BA26-402B-9852-5247AC58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75129-60BA-468B-8ED7-D81DEBA0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2E9FD-1E01-46F9-A010-EA7C71F2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6F6FF-DFB9-4FBA-AFC8-46613E2C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C0D41-57F7-430D-AFC7-80BB90C3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EE8-6B60-4C32-B8AA-3A049AA0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2F378-CB8D-4549-901E-73B35E01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FF30F-04AF-4C32-87AA-77B0FBA8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7BC9A-4DBE-4FC2-82C4-BAA2E758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4EFF4-8964-4A49-B9E3-722E241E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C05D9-182D-42E3-B123-805F21FC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80D-255D-40BE-82BD-BB7B4960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6B0D-3098-495D-A3CE-7E3C11758B22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ostokąt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rostokąt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25A6-41A6-4D06-96AD-788EA725AFC2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rostokąt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rostokąt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801C-AE89-40A8-B510-6CB4478BE682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EC0C-3310-4FFA-9056-996599384C57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rostokąt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0F23-9555-4973-8DAF-49A6FF472436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rostokąt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rostokąt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9805-CF57-493D-9A84-719AB412F965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rostokąt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rostokąt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6DB6-C7E1-45F3-895F-D527940015D8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2"/>
          <a:stretch/>
        </p:blipFill>
        <p:spPr>
          <a:xfrm>
            <a:off x="609480" y="1627200"/>
            <a:ext cx="7918560" cy="2590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404640"/>
            <a:ext cx="8077320" cy="59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Users\Darek\Desktop\góra.jpg"/>
          <p:cNvPicPr/>
          <p:nvPr/>
        </p:nvPicPr>
        <p:blipFill>
          <a:blip r:embed="rId3"/>
          <a:stretch/>
        </p:blipFill>
        <p:spPr>
          <a:xfrm>
            <a:off x="1692360" y="765000"/>
            <a:ext cx="5759280" cy="943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C:\Users\Darek\Desktop\dół.jpg"/>
          <p:cNvPicPr/>
          <p:nvPr/>
        </p:nvPicPr>
        <p:blipFill>
          <a:blip r:embed="rId4"/>
          <a:stretch/>
        </p:blipFill>
        <p:spPr>
          <a:xfrm>
            <a:off x="1835280" y="4797360"/>
            <a:ext cx="5761080" cy="14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ytuł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Po raz pierwszy choinka pojawiła się W Polsce w dziewiętnastym wieku jako zwyczaj zapożyczony z Nadrenii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Symbolizuje rajskie drzewo życia, dlatego pierwszymi ozdobami były jabłka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Gwiazda na czubku choinki odnosiła się do Gwiazdy Betlejemskiej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Świeczki znajdujące się na choince miały symbolizować światło Chrystusa, natomiast łańcuchy przypominały o grzechu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Z czasem ozdób przybywało, choinki stawały się coraz bardziej strojne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Obraz 6" descr="star-413981_640.jpg"/>
          <p:cNvPicPr/>
          <p:nvPr/>
        </p:nvPicPr>
        <p:blipFill>
          <a:blip r:embed="rId2"/>
          <a:stretch/>
        </p:blipFill>
        <p:spPr>
          <a:xfrm>
            <a:off x="7236000" y="11592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Obraz 3" descr="christmas-206362_640.jpg"/>
          <p:cNvPicPr/>
          <p:nvPr/>
        </p:nvPicPr>
        <p:blipFill>
          <a:blip r:embed="rId1"/>
          <a:stretch/>
        </p:blipFill>
        <p:spPr>
          <a:xfrm>
            <a:off x="2050920" y="380880"/>
            <a:ext cx="496908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Najczęściej wieszana nad drzwiami w celu zapewnienia pokoju, miłości i szczęścia domostwu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Zwyczaj całowania się pod jemiołą miało zapewnić mężczyźnie płodność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Obraz 4" descr="star-436134_640.jpg"/>
          <p:cNvPicPr/>
          <p:nvPr/>
        </p:nvPicPr>
        <p:blipFill>
          <a:blip r:embed="rId2"/>
          <a:stretch/>
        </p:blipFill>
        <p:spPr>
          <a:xfrm>
            <a:off x="6659640" y="0"/>
            <a:ext cx="21844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Puste miejsce przy wigilijnym stole zostawiano dla duszy osób, które już odeszły a w tę jedną noc w roku przychodzą w odwiedziny do swoich bliskich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Obecnie wolne miejsce jest przeznaczone dla zabłąkanego wędrowc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Obraz 3" descr="christmas-ornament-11302_640.jpg"/>
          <p:cNvPicPr/>
          <p:nvPr/>
        </p:nvPicPr>
        <p:blipFill>
          <a:blip r:embed="rId2"/>
          <a:srcRect l="14561" t="0" r="12197" b="0"/>
          <a:stretch/>
        </p:blipFill>
        <p:spPr>
          <a:xfrm>
            <a:off x="7308720" y="0"/>
            <a:ext cx="12589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Dawniej wierzono, że w noc wigilijną wszystkie zwierzęta będą mówić ludzkim głosem aby móc w radować się z narodzin Jezusa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Podawano zwierzętom również opłatek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Obraz 3" descr="ice-crystal-64157_640.jpg"/>
          <p:cNvPicPr/>
          <p:nvPr/>
        </p:nvPicPr>
        <p:blipFill>
          <a:blip r:embed="rId2"/>
          <a:stretch/>
        </p:blipFill>
        <p:spPr>
          <a:xfrm>
            <a:off x="680400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50" name="Symbol zastępczy zawartości 3" descr="nicholas-of-myra-61067_640.jpg"/>
          <p:cNvPicPr/>
          <p:nvPr/>
        </p:nvPicPr>
        <p:blipFill>
          <a:blip r:embed="rId2"/>
          <a:stretch/>
        </p:blipFill>
        <p:spPr>
          <a:xfrm>
            <a:off x="396720" y="2346480"/>
            <a:ext cx="4407120" cy="3305160"/>
          </a:xfrm>
          <a:prstGeom prst="rect">
            <a:avLst/>
          </a:prstGeom>
          <a:ln w="0">
            <a:noFill/>
          </a:ln>
        </p:spPr>
      </p:pic>
      <p:pic>
        <p:nvPicPr>
          <p:cNvPr id="351" name="Obraz 4" descr="santa-31276_640.png"/>
          <p:cNvPicPr/>
          <p:nvPr/>
        </p:nvPicPr>
        <p:blipFill>
          <a:blip r:embed="rId3"/>
          <a:stretch/>
        </p:blipFill>
        <p:spPr>
          <a:xfrm>
            <a:off x="5003640" y="2276640"/>
            <a:ext cx="347508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4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900000" y="1915920"/>
            <a:ext cx="3346560" cy="38113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Choink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Jasełk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Kolędnic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Jemioł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Dzielenie się opłatkie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003280" y="1989000"/>
            <a:ext cx="3929400" cy="4191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Puste miejsce przy sto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Szopk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12 potraw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Obraz 5" descr="christmas-ornament-513503_640.jpg"/>
          <p:cNvPicPr/>
          <p:nvPr/>
        </p:nvPicPr>
        <p:blipFill>
          <a:blip r:embed="rId2"/>
          <a:stretch/>
        </p:blipFill>
        <p:spPr>
          <a:xfrm>
            <a:off x="6622920" y="0"/>
            <a:ext cx="25210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500" spc="-1" strike="noStrike">
              <a:solidFill>
                <a:srgbClr val="ff3100"/>
              </a:solidFill>
              <a:latin typeface="Corbel"/>
            </a:endParaRPr>
          </a:p>
        </p:txBody>
      </p:sp>
      <p:pic>
        <p:nvPicPr>
          <p:cNvPr id="312" name="Symbol zastępczy zawartości 4" descr="christmas-566309_640.png"/>
          <p:cNvPicPr/>
          <p:nvPr/>
        </p:nvPicPr>
        <p:blipFill>
          <a:blip r:embed="rId1"/>
          <a:stretch/>
        </p:blipFill>
        <p:spPr>
          <a:xfrm>
            <a:off x="1258920" y="1700280"/>
            <a:ext cx="6416640" cy="45306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ytuł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orbel"/>
              </a:rPr>
              <a:t>Przed przygotowanie wigilijnego stołu, należy włożyć pod obrus sianko symbolizujące ubóstwo Chrystusa. Według tradycji, przy stole zostawia się jedno wolne miejsce dla niespodziewanego gościa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orbel"/>
              </a:rPr>
              <a:t>12 potraw znajdujących się na stole symbolizuje każdego z apostołów Jezusa. Najbardziej tradycyjnymi potrawami są: barszcz czerwony, karp, pierogi z grzybami i kapustą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orbel"/>
              </a:rPr>
              <a:t>Bardzo ważne aby podczas kolacji spróbować każdej potrawy, dzięki temu żadna przyjemność, w nowym roku, nas nie omini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Obraz 8" descr="christmas-bauble-437520_640.jpg"/>
          <p:cNvPicPr/>
          <p:nvPr/>
        </p:nvPicPr>
        <p:blipFill>
          <a:blip r:embed="rId2"/>
          <a:srcRect l="0" t="0" r="0" b="14316"/>
          <a:stretch/>
        </p:blipFill>
        <p:spPr>
          <a:xfrm>
            <a:off x="5904000" y="0"/>
            <a:ext cx="306072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Cicha noc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Bóg się rodzi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Dzisiaj w Betlejem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Do szopy, hej pasterz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Gdy się Chrystus rodzi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W żłobie leż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Lulaj że Jezuniu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Przybieżeli do Betlejem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Gdy śliczna panna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Wśród nocnej cisz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4518000" y="0"/>
            <a:ext cx="4626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ytuł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6000"/>
          </a:bodyPr>
          <a:p>
            <a:pPr marL="42048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Cicha noc, święta noc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Pokój niesie, ludziom wszem 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A u żłóbka Matka Święta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Czuwa sama uśmiechnięta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Nad dzieciątka snem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Nad dzieciątka snem</a:t>
            </a:r>
            <a:br>
              <a:rPr sz="2200"/>
            </a:b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Cicha noc, święta noc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Pastuszkowie od swych trzód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Biegną wielce zadziwieni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Za anielskim głosem pieni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Gdzie się spełnił cud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Gdzie się spełnił cud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Cicha noc, święta noc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Narodzony Boży syn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Pan wielkiego majestatu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Niesie dziś całemu światu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Odkupienie win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Odkupienie wi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4518000" y="0"/>
            <a:ext cx="4626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ytuł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Bóg się rodzi, moc truchlej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Pan niebiosów obnażony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Ogień krzepnie, blask ciemniej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Ma granice - Nieskończony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Wzgardzony - okryty chwałą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Śmiertelny król nad wiekam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A Słowo Ciałem się stał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I mieszkało między nami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Cóż masz, niebo, nad ziemiany?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Bóg porzucił szczęście twoj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Wszedł między lud ukochany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Dzieląc z nim trudy i znoj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Niemało cierpiał, niemał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Żeśmy byli winni sam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A Słowo Ciałem się stał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I mieszkało między nami 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Podnieś rękę, boże Dziecię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Błogosław ojczyznę miłą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W dobrych radach, w dobrym byci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Wspieraj jej siłę Swą siłą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Dom nasz i majętność całą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I wszystkie wioski z miastam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A Słowo Ciałem się stał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I mieszkało między nami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4518000" y="0"/>
            <a:ext cx="4626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ytuł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62864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Dzisiaj w Betlejem, dzisiaj w Betlejem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Wesoła nowin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Że Panna czysta, że Panna czyst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orodziła Syna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Maryja Panna, Maryja Pann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Dzieciątko piastuje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I Józef święty i Józef święty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On ją pielęgnuje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ociaż w stajence, chociaż w stajence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nna Syna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rzecież on wkrótce, przecież on wkrótce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Ludzi oswobodzi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4832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I Trzej królowie, i trzej królowie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Od wschodu przybyl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I dary Panu, i dary Panu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osztowne złożyli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ójdźmy też i my, pójdźmy też i my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rzywitać Jezus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a nad królami, Króla nad królam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Uwielbić Jezusa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5076720" y="0"/>
            <a:ext cx="40672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ytuł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dy się Chrystus rodz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 na świat przychodz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Ciemna noc w jasności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Promienistych brodzi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Aniołowie się radują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Pod niebiosa wyśpiewują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loria, gloria, gloria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n excelsis De-o" | x2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Mówią do pasterzy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Którzy trzód swych strzegl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Aby do Betlejem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Czym prędzej pobiegl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Bo się narodził Zbawiciel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szego świata Odkupiciel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loria, gloria, gloria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n excelsis Deo | x2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O niebieskie duchy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 posłowie nieb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Powiedzcież wyraźniej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Co nam czynić trzeb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Bo my nic nie pojmujemy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Ledwo od strachu żyjemy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loria, gloria, gloria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n excelsis Deo | x2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dźcie do Betlejem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dzie Dziecię zrodzon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 pieluszki powit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 żłobie położon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Oddajcie Mu pokłon boski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On osłodzi wasze troski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loria, gloria, gloria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n excelsis Deo | x2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5940360" y="0"/>
            <a:ext cx="32036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5:25:04Z</dcterms:created>
  <dc:creator>Michał</dc:creator>
  <dc:description/>
  <dc:language>en-US</dc:language>
  <cp:lastModifiedBy>Darek</cp:lastModifiedBy>
  <dcterms:modified xsi:type="dcterms:W3CDTF">2015-01-20T14:10:58Z</dcterms:modified>
  <cp:revision>45</cp:revision>
  <dc:subject/>
  <dc:title>Święta Bożonarodzeniowe</dc:title>
</cp:coreProperties>
</file>